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9109-2234-4563-A1EC-3AB6BB49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3BB8-EE93-4793-9650-FCBB608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606B-6C1D-4EE3-B3E8-D185F69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0E0D-1BD3-47E2-97C6-A61E2919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A086-3ABD-4AAC-9C33-A976C08B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3A8A-88C8-4922-8814-E51DE3D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B0BE-1A22-4C05-ABC8-3A39D92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A42-0F6F-4C54-A6F3-861C349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779B-0E2C-4629-9AAC-C526326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A79B-BB85-418E-B6F1-FCE2D914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ABC8-9D62-4B23-89EC-7892144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5185-BFD1-4AAC-BB51-726B5AC6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2483-4BD6-4D09-8A62-9C8B0D1B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C4AC-5FED-419D-A8B6-1F17611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2C29-00F6-4A95-AF13-ECE6990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EBDE-36B0-482B-86FA-5676BD7C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79C-2CE7-4D60-962C-20C06F74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52F3-A7AD-41A6-A3A7-FEF4ECC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C37D-1981-40C5-95F7-D603539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15C3-FFE7-4F26-8CF7-2B4777C3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D4E5-D366-44ED-87E3-8C758187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712E-F1D0-436E-AE85-0F4DA7D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6E65-E4F4-4B98-9962-B4EB8DE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C5E1-7EF0-419D-92D5-8C8E5E8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02D5-2EF0-42C2-BD82-3706BE914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80C0-D903-4388-A89C-58C46F428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560" y="1844280"/>
            <a:ext cx="709308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800" spc="-1" strike="noStrike">
                <a:solidFill>
                  <a:srgbClr val="ffcccc"/>
                </a:solidFill>
                <a:latin typeface="Tahoma"/>
              </a:rPr>
              <a:t>Выявление особенностей взаимного </a:t>
            </a:r>
            <a:br>
              <a:rPr sz="3800"/>
            </a:br>
            <a:r>
              <a:rPr b="1" lang="en-US" sz="3800" spc="-1" strike="noStrike">
                <a:solidFill>
                  <a:srgbClr val="ffcccc"/>
                </a:solidFill>
                <a:latin typeface="Tahoma"/>
              </a:rPr>
              <a:t>расположения объектов и геометрических фигур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4626000"/>
            <a:ext cx="601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полнили студентки 646 г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мидт А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макова Я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подаватель: Габова М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 Cond"/>
              </a:rPr>
              <a:t>Восприятие пространства включает восприятия расстояния или отдаления, в котором предметы расположены от нас и друг от друга, направления, в котором они находятся, величины и формы, объёма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4597560"/>
            <a:ext cx="20336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Реальные предметы в реальном пространстве, находясь один вне другого, неизбежно располагаются в том или ином направлении, на том или ином расстоянии друг от друга. Только по мере того как отражаются положение, направление, расстояние, величина, форма, определяемые сложной системой пространственных отношений, а не одна лишь недифференцированная внеположность, формируется подлинное восприятие простр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Такое восприятие пространства, включающего в себя осознание более или менее сложной системы отношений, отражающих соотношения вещей в реальном пространстве, конечно, не является первичной чувственной данностью. Оно - продукт значительн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05600" y="4581360"/>
            <a:ext cx="123840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Восприятие пространства - положения предмета в пространстве, его величины, контура, рельефа, так же как его покоя и движения, - совершается обычно движущимся глазом, и мышечное чувство - в сочетании с собственно зрительными ощущениями - играет в деятельности самого глаза существенную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3457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Восприятие величины и формы предметов осуществляется в результате сочетания в опыте человека зрительных, осязательных и кинестетических (мускульно-двигательных) ощущ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Восприятие объемности и удаленности предметов осуществляется за счет бинокулярного зрения (зрения двумя глазами). Восприятие предмета зависит не только от величины его изображения на сетчатке глаза, но и от силы напряжения глазных мышц, которая изменяется в зависимости от удаленности предмета. Существенное значение для восприятия удаленности предмета имеет сравнение его величины с хорошо известной величиной други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Пространственное перемещение предметов, их движение воспринимается в зависимости от их удаленности и скорости дви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Способность правильно оценивать пространственные отношения называется глазоме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Способность видеть самые мелкие предметы называется остротой зрения или разрешающей способностью гл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461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Подлинное восприятие пространства, адекватно отражающее его объективные свойства и отношения, является очень сложным процессом, в котором чувственные и мыслительные компоненты даны в сложном единстве и взаимопроникнов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Medium Cond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2:49:04Z</dcterms:created>
  <dc:creator>Аня</dc:creator>
  <dc:description/>
  <dc:language>en-US</dc:language>
  <cp:lastModifiedBy>Аня</cp:lastModifiedBy>
  <dcterms:modified xsi:type="dcterms:W3CDTF">2010-12-25T13:45:22Z</dcterms:modified>
  <cp:revision>2</cp:revision>
  <dc:subject/>
  <dc:title>Выявление особенностей взаимного расположения объектов и геометрических фигур </dc:title>
</cp:coreProperties>
</file>